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5443-FA3D-4EE9-92B8-434EEF84D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9327-D637-403A-AADC-123C0C51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87EED-E70F-421F-B119-1DBAEB22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7544E-321F-46E3-9AA6-AB1F13B2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C7CBF-3E96-491D-B8FB-318C9FA9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6ACBC-B247-4818-BD62-5E60D81A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77A99-8CF4-461A-96D4-76868427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43577-9E75-4FB8-BBA5-44E8955D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299CE-E421-4A2F-86AC-FC837B09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E0C0F-EEA2-44CA-BC92-4BB07EB9F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ADFEA-D1AB-48F6-88C1-4E3E9866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19007-8A73-4918-A58D-61931D701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77DE-6CD8-4117-A4DA-42C7D38C1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F216F-E54F-4829-8000-753A0BB7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C5FFC-EFAA-472E-BD83-416E0F0B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99B97-29D7-42E3-90E0-CB556C25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E5A249-01D0-4EB2-A862-920210B6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F7663-892B-4BB5-967A-42A76255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DC46ED-FB92-44A4-B29B-258C13FB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24FD3-02E7-4B2A-BE2A-B59905F2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5422B-1299-4DBE-8952-F600DE34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760EEC-813C-49ED-8D66-43B17EEE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81370-4334-4035-8B70-2A4C4F06C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1009-335A-4E3C-93DB-EE936655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EF90F1-05C5-423E-B64D-1F1645B5E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921C1-1617-4140-BC5B-ABBB733EA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53755-4B55-4808-AAE2-579C7D98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B3406-72D6-47BD-822E-B0A670CE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FF137-19EE-4578-8D55-5D634AB2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9A483-3A11-4909-8774-B57CFB59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FF96D-A386-45E6-9222-9FDDC03C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2F3DE-5CE7-44A6-A64A-E5B7C651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3B8F7-A504-47AC-A608-F286A9CE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CB88C-C425-48A6-9677-7B50BCA2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AE48-C9A5-4BA1-84CB-5BDA6AA6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27AF1-F3D8-40BC-9740-97474E89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79884-0E62-4D99-8447-1635F38F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CB0D9-41CE-4A4A-B828-CDE9FFDD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B7479-B554-4B51-A73B-14B92620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1DC286-F4F5-4A88-A2B9-17547680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C5346-5C40-482F-A91A-100D02EE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3919F9-2779-4B37-B9E6-7DB9345A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00EB1B-5121-49DA-9F70-A62D2B37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936945-7291-47A9-A6FE-6F34FDD8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910E9-2B76-4762-B9F5-D95F51D6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32B1-FD24-45CF-9919-C2493DD1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37E637-AAE1-4E90-A281-2A619EE8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F71BFD-2428-4ECF-9505-61B70DA0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9CEF7-3F7F-46E6-904A-71D6B2A1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2E0CA-1A69-4C3D-B8E0-7994BF83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FE666-A2BF-4B2F-8DBF-7983A857C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88E1-72FD-4023-8673-F7D9F086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23F5-A08F-4EA1-88DD-CBB56122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36CC-8ADF-481D-B12A-BDC1EB28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09CA-1859-4DAB-95A7-30E62E54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A61D-E05F-4E44-9C5F-42620A3C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5A77-246D-446A-915B-EF8ED035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D962-75DE-4229-9C0A-0C9D807B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3991-5541-434D-8D77-B37037E9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0D83-8FC8-4974-8AC7-C7B9358D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1944-CE66-46B2-9D60-B86FA611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C2D3-6997-4522-9C37-FED1A698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15C3C-B9F4-46FC-B6C6-430937EE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BCBC7-E3B1-47E0-B3AD-DCF48C14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E729B-E4EA-4E47-8673-E5BA51CB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0E45D-7E8A-4E57-9F04-8FB275C8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E5DB2-7568-45DA-9B45-55F36B73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1A17-399D-4BEE-92F0-5A6251D6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364B9-9823-45A3-B77B-3A90D95C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66F39-CCDC-4CEA-BB7B-BDB2E2B3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BC625-1ACE-473E-8203-2FB5AEF1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5175D-2915-452B-9E13-C7C71B0C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EDBD4-995C-4114-A4E9-9ADCD47E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02DBB-ABB6-4B7D-83F1-7550FE98F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47A11-5629-471A-A94F-6204829C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6BB27-F48C-4EC3-BCE4-2C4651DDA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7562F-EF43-4771-ADB5-3C776D94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FBD73-46C3-4CD2-926F-31C1ECBE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CE43-9666-4CA7-A268-4E6EAB42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68D1A-10D2-4F5B-B95A-CC5590AC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91118-2D5E-4EB5-8B6E-58EBC92F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71910-9BEF-42D4-9938-D01BBCCC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37788-57BC-48D0-8374-9408E5D1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B87BA-DDD8-4740-AD46-DB98E4C7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C128E-A4DF-451D-95DC-49FF7013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53B9A-D5AA-4C31-8D95-CB9B8E18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FAB97-E79C-4A64-8193-2889E884C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7073E-E452-478B-AF5E-F7595F84E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26619-5B00-46D9-ACA2-30859B04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9A4C-C72F-43CA-8BFF-AEA8A24C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AD27C-F7F6-4D49-A8DB-5D78AFBF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21922-715D-4AD2-8CB4-CF3FDB60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4F42B-26B3-4ABC-8832-70650EB8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66834-663C-49E5-A09D-0E9CFBB1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A4A79-879F-44C7-89D4-752E2CB4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CCC56-7242-400D-9CF9-80843AFE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26A76-656D-411B-87D0-8EB1604A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C51C1-B596-4E96-B55B-03E59ABB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A178A-DCE2-4861-AA74-70CD3EB6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B3D2E-4350-4F92-8B65-9F6FA3028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427A-1942-4F81-9B40-9B3AF5AD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55796-3238-4498-80C9-9643EF34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D3E97-C715-4B8E-9D1E-AD90F5E55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25DCF-9467-4966-AE59-D90934D8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8253C-A923-4E8D-B0C9-6F4886E8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AC6F9-A092-440F-A7E7-DA869350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3C093-A228-49D4-AEA4-ABA20040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D4670-FFA4-4220-8CC3-6D97BF04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A36CF-7928-48CA-BE3D-5106C86F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08623-F0A8-4C96-A15F-BD881AA7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36036-89CF-4162-A78D-48E85C7E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15EC-C6EB-468B-82F4-5D40BFA6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3F625-FC1F-4E18-83AC-3B6197D2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D758B-1C97-4365-A927-9841C80B0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7155C-9E66-4312-8672-38AD787D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52EB4-A8EE-484C-A07E-2D46968BA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ED6AD-ECD1-4CA7-96E8-2F9412F5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C5F47-BE81-4378-A435-F5343111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9C224-E5C4-4910-ABD4-B32727B3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84A4F-E8BE-49F1-8A7F-C0F420A0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BDB0D-282C-4288-B661-EC9A9382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3AF1D-2292-4987-9328-8BF68675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C61C-D1AE-4F81-BB9F-B4DD0BA9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3E8AF-A0C7-4710-8FD0-26B43D48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12E1C-A64D-403B-AA50-E12B272E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3C547-341F-4367-B93F-C73205FF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3F893-B485-456E-90D4-2CE940C9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CD15B-2463-4BCD-A3AD-AD8E793D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F4AF3-7905-4177-8C70-28B5AEC9D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7C40D-2C92-4DD4-B120-D39D07C9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68820-775E-40D7-AD45-9886A4D6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898A6-7D33-4386-8F51-4FCAE747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632E5-3615-488C-8B0B-7C50A3E3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0F68-4951-4C76-B3B7-86B9A983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2B23D-4429-448B-A2C0-3360DBCF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89A20-D13C-49E9-A974-E7F2339B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65491-3812-48EB-8943-41F41C82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3E7A0-7501-4ADF-B184-2CB698C9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AB4D8-9626-4BDA-AD83-18EA8A69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8DC8A-DB05-4EAD-A8EC-295EC4DE3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A125F-C6D3-4CCF-97B6-52834A4A8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96F67-77AE-425D-A203-8ABEB4348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C16F3-F5D4-4166-8812-231E58B2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D2D1A-65A3-4C32-A75C-15A9C25F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8ce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fea02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70a52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a5d84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1952-5307-41FF-ABA1-0225E79B313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e8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8ce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fea02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70a52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a5d84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FCC0-5E52-4C6A-9B7A-60DA5935212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8ce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fea02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70a52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a5d84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5B3B-2106-4903-A8D3-9209F76B249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8ce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fea02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70a52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a5d84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51FE-0A7C-4BB6-9A70-CCB6DFC80AE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8ce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fea02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70a52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a5d84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31FF-539B-4C24-9FDC-B10D074E58A4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704B-C9C9-4EB3-8286-F4F635FD2F67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8ce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fea02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70a52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a5d84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E349-415A-4D36-BCE4-481E091C0E5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8ce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fea02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70a52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a5d84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81A1-B196-454F-9199-AFD5C4A4E8CA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8C03-8C77-49D5-891B-0D29585CE6AD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8ce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fea02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70a52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a5d84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54EC-0835-415D-A1F4-6E76FD80679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8ce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fea02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70a52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a5d84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AD30-A1AF-4688-9EC1-89D2EE8295E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8ce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fea02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70a52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a5d84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412E-2975-4428-9734-C3B12C43222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8ce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fea02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70a52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a5d84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EF44-24FB-438E-9A6D-4392CD18476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8ce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58ceff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fea02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70a52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a5d84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1C42-1C76-49C6-99B1-B283269F55F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Rectangle 6" descr=""/>
          <p:cNvPicPr/>
          <p:nvPr/>
        </p:nvPicPr>
        <p:blipFill>
          <a:blip r:embed="rId1"/>
          <a:stretch/>
        </p:blipFill>
        <p:spPr>
          <a:xfrm>
            <a:off x="609480" y="3486240"/>
            <a:ext cx="7772400" cy="146988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1257480" y="4452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Autofit/>
          </a:bodyPr>
          <a:p>
            <a:pPr marL="119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reating a Brochure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5727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43080" indent="-343080">
              <a:lnSpc>
                <a:spcPct val="90000"/>
              </a:lnSpc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Z-Fol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- the paper is folded in alternating directions, which is good if you want to present information sequentially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Barrel Fol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- much like you'd fold a letter before putting it in an envelop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22" name="Picture 4" descr="Figure 1"/>
          <p:cNvPicPr/>
          <p:nvPr/>
        </p:nvPicPr>
        <p:blipFill>
          <a:blip r:embed="rId2"/>
          <a:stretch/>
        </p:blipFill>
        <p:spPr>
          <a:xfrm>
            <a:off x="6172200" y="2819520"/>
            <a:ext cx="25621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Rectangle 2" descr=""/>
          <p:cNvPicPr/>
          <p:nvPr/>
        </p:nvPicPr>
        <p:blipFill>
          <a:blip r:embed="rId1"/>
          <a:stretch/>
        </p:blipFill>
        <p:spPr>
          <a:xfrm>
            <a:off x="457200" y="52380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6840" y="1460520"/>
            <a:ext cx="419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rbel"/>
              </a:rPr>
              <a:t>Orient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 set up your page to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landscape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click the “page layout” ta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orienta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Landscap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rbel"/>
              </a:rPr>
              <a:t>Margi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 change the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margins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click the “page layout tab”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Margin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Change the Margins to .5" all the way around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25" name="Picture 5" descr=""/>
          <p:cNvPicPr/>
          <p:nvPr/>
        </p:nvPicPr>
        <p:blipFill>
          <a:blip r:embed="rId2"/>
          <a:stretch/>
        </p:blipFill>
        <p:spPr>
          <a:xfrm>
            <a:off x="5159520" y="246240"/>
            <a:ext cx="3768480" cy="27604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6" descr=""/>
          <p:cNvPicPr/>
          <p:nvPr/>
        </p:nvPicPr>
        <p:blipFill>
          <a:blip r:embed="rId3"/>
          <a:stretch/>
        </p:blipFill>
        <p:spPr>
          <a:xfrm>
            <a:off x="5159520" y="3309840"/>
            <a:ext cx="3811320" cy="2992680"/>
          </a:xfrm>
          <a:prstGeom prst="rect">
            <a:avLst/>
          </a:prstGeom>
          <a:ln w="0">
            <a:noFill/>
          </a:ln>
        </p:spPr>
      </p:pic>
      <p:cxnSp>
        <p:nvCxnSpPr>
          <p:cNvPr id="527" name="Straight Arrow Connector 2"/>
          <p:cNvCxnSpPr/>
          <p:nvPr/>
        </p:nvCxnSpPr>
        <p:spPr>
          <a:xfrm flipV="1">
            <a:off x="4080960" y="1774440"/>
            <a:ext cx="3288600" cy="983520"/>
          </a:xfrm>
          <a:prstGeom prst="straightConnector1">
            <a:avLst/>
          </a:prstGeom>
          <a:ln w="47880">
            <a:solidFill>
              <a:srgbClr val="76c5ef"/>
            </a:solidFill>
            <a:miter/>
            <a:tailEnd len="med" type="arrow" w="med"/>
          </a:ln>
        </p:spPr>
      </p:cxnSp>
      <p:cxnSp>
        <p:nvCxnSpPr>
          <p:cNvPr id="528" name="Straight Arrow Connector 8"/>
          <p:cNvCxnSpPr/>
          <p:nvPr/>
        </p:nvCxnSpPr>
        <p:spPr>
          <a:xfrm>
            <a:off x="3776400" y="5119200"/>
            <a:ext cx="2610360" cy="777240"/>
          </a:xfrm>
          <a:prstGeom prst="straightConnector1">
            <a:avLst/>
          </a:prstGeom>
          <a:ln w="47880">
            <a:solidFill>
              <a:srgbClr val="76c5e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56840" y="1774800"/>
            <a:ext cx="40338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43080" indent="-343080"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 set up your columns click the “Page Layout” ta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Column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Select Three Colum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31" name="Picture 5" descr=""/>
          <p:cNvPicPr/>
          <p:nvPr/>
        </p:nvPicPr>
        <p:blipFill>
          <a:blip r:embed="rId2"/>
          <a:stretch/>
        </p:blipFill>
        <p:spPr>
          <a:xfrm>
            <a:off x="4591080" y="1517760"/>
            <a:ext cx="4095720" cy="3467160"/>
          </a:xfrm>
          <a:prstGeom prst="rect">
            <a:avLst/>
          </a:prstGeom>
          <a:ln w="0">
            <a:noFill/>
          </a:ln>
        </p:spPr>
      </p:pic>
      <p:cxnSp>
        <p:nvCxnSpPr>
          <p:cNvPr id="532" name="Straight Arrow Connector 6"/>
          <p:cNvCxnSpPr/>
          <p:nvPr/>
        </p:nvCxnSpPr>
        <p:spPr>
          <a:xfrm>
            <a:off x="4026960" y="3251160"/>
            <a:ext cx="3056760" cy="489600"/>
          </a:xfrm>
          <a:prstGeom prst="straightConnector1">
            <a:avLst/>
          </a:prstGeom>
          <a:ln w="47880">
            <a:solidFill>
              <a:srgbClr val="76c5e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255600" y="1417680"/>
            <a:ext cx="448776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43080" indent="-343080"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o adjust the spacing of your columns go to the “Page Layout” tab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Column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More column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s allows you to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djust column width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nd spac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35" name="Picture 5" descr=""/>
          <p:cNvPicPr/>
          <p:nvPr/>
        </p:nvPicPr>
        <p:blipFill>
          <a:blip r:embed="rId2"/>
          <a:stretch/>
        </p:blipFill>
        <p:spPr>
          <a:xfrm>
            <a:off x="4727520" y="1281240"/>
            <a:ext cx="4057560" cy="3476520"/>
          </a:xfrm>
          <a:prstGeom prst="rect">
            <a:avLst/>
          </a:prstGeom>
          <a:ln w="0">
            <a:noFill/>
          </a:ln>
        </p:spPr>
      </p:pic>
      <p:cxnSp>
        <p:nvCxnSpPr>
          <p:cNvPr id="536" name="Straight Arrow Connector 5"/>
          <p:cNvCxnSpPr/>
          <p:nvPr/>
        </p:nvCxnSpPr>
        <p:spPr>
          <a:xfrm>
            <a:off x="2500200" y="2774880"/>
            <a:ext cx="4911120" cy="1783440"/>
          </a:xfrm>
          <a:prstGeom prst="straightConnector1">
            <a:avLst/>
          </a:prstGeom>
          <a:ln w="47880">
            <a:solidFill>
              <a:srgbClr val="76c5ef"/>
            </a:solidFill>
            <a:miter/>
            <a:tailEnd len="med" type="arrow" w="med"/>
          </a:ln>
        </p:spPr>
      </p:cxnSp>
      <p:pic>
        <p:nvPicPr>
          <p:cNvPr id="537" name="Picture 7" descr=""/>
          <p:cNvPicPr/>
          <p:nvPr/>
        </p:nvPicPr>
        <p:blipFill>
          <a:blip r:embed="rId3"/>
          <a:stretch/>
        </p:blipFill>
        <p:spPr>
          <a:xfrm>
            <a:off x="2700360" y="3895560"/>
            <a:ext cx="3081240" cy="2772000"/>
          </a:xfrm>
          <a:prstGeom prst="rect">
            <a:avLst/>
          </a:prstGeom>
          <a:ln w="0">
            <a:noFill/>
          </a:ln>
        </p:spPr>
      </p:pic>
      <p:cxnSp>
        <p:nvCxnSpPr>
          <p:cNvPr id="538" name="Straight Arrow Connector 9"/>
          <p:cNvCxnSpPr/>
          <p:nvPr/>
        </p:nvCxnSpPr>
        <p:spPr>
          <a:xfrm>
            <a:off x="2500200" y="3819240"/>
            <a:ext cx="1116720" cy="1462680"/>
          </a:xfrm>
          <a:prstGeom prst="straightConnector1">
            <a:avLst/>
          </a:prstGeom>
          <a:ln w="47880">
            <a:solidFill>
              <a:srgbClr val="76c5e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067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43080" indent="-343080"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se the Text Box from the “Insert Tab” menu to help you organize inform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se as many as the tools (bullets, word art, pictures etc) that we’ve learned to help organize your information and make it visually appeal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41" name="Picture 5" descr=""/>
          <p:cNvPicPr/>
          <p:nvPr/>
        </p:nvPicPr>
        <p:blipFill>
          <a:blip r:embed="rId2"/>
          <a:stretch/>
        </p:blipFill>
        <p:spPr>
          <a:xfrm>
            <a:off x="0" y="4054320"/>
            <a:ext cx="9182160" cy="1314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6" descr=""/>
          <p:cNvPicPr/>
          <p:nvPr/>
        </p:nvPicPr>
        <p:blipFill>
          <a:blip r:embed="rId3"/>
          <a:stretch/>
        </p:blipFill>
        <p:spPr>
          <a:xfrm>
            <a:off x="1523880" y="5369040"/>
            <a:ext cx="613440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76c5e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plete 07 – Ergonomics Brochure Assignment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00:31:13Z</dcterms:created>
  <dc:creator>Office 2004 Test Drive User</dc:creator>
  <dc:description/>
  <dc:language>en-US</dc:language>
  <cp:lastModifiedBy>Katherine Vlug</cp:lastModifiedBy>
  <dcterms:modified xsi:type="dcterms:W3CDTF">2015-10-13T16:09:38Z</dcterms:modified>
  <cp:revision>28</cp:revision>
  <dc:subject/>
  <dc:title>Title</dc:title>
</cp:coreProperties>
</file>